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02920" y="274320"/>
            <a:ext cx="504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6240" indent="-4190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33720" indent="-30492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33720" indent="-30492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33720" indent="-30492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635280" y="29242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11280" y="5950080"/>
            <a:ext cx="5040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5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1403280" y="27432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ítul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3:06:38Z</dcterms:created>
  <dc:creator>Jennifer</dc:creator>
  <dc:description/>
  <dc:language>en-US</dc:language>
  <cp:lastModifiedBy>Jennifer</cp:lastModifiedBy>
  <dcterms:modified xsi:type="dcterms:W3CDTF">2006-08-22T20:06:44Z</dcterms:modified>
  <cp:revision>73</cp:revision>
  <dc:subject/>
  <dc:title>Slide 1</dc:title>
</cp:coreProperties>
</file>